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780A-C53C-4F3D-9E17-DEF12D8D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2866-EF5D-4620-92A1-9DA5302A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7EC9-2AA4-4C10-B26F-AEAEAAC7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D3CC-8559-442E-9751-28BE44D9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654E-E6E5-48CA-944E-F9C2E560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7D14-5AA1-4F5C-84A6-EDC025CC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B3FF-95A1-4D4E-907B-EB42CC75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C959-C728-441C-A88B-0581E42E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BE30-6086-4A74-BE61-921F01BB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201D-812B-41C3-8902-C2487EE8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726C-608A-4A2E-9C08-BDE84EF8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2D0A-CB6D-4B40-9057-5E058B02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5C32F9-9592-48D3-8002-B0372BCBCD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D08668-1D5C-495F-9061-F09D8D44D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START UP – Top Page 50 – Typ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reate a word web around the following three word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eam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ti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mend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12 though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74880" y="1600200"/>
            <a:ext cx="726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parate clause/paragraph of a legal doc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Diagram 4" descr=""/>
          <p:cNvPicPr/>
          <p:nvPr/>
        </p:nvPicPr>
        <p:blipFill>
          <a:blip r:embed="rId2"/>
          <a:stretch/>
        </p:blipFill>
        <p:spPr>
          <a:xfrm>
            <a:off x="2114640" y="2786040"/>
            <a:ext cx="6675480" cy="4548240"/>
          </a:xfrm>
          <a:prstGeom prst="rect">
            <a:avLst/>
          </a:prstGeom>
          <a:ln w="0">
            <a:noFill/>
          </a:ln>
        </p:spPr>
      </p:pic>
      <p:sp>
        <p:nvSpPr>
          <p:cNvPr id="45" name="Straight Connector 7"/>
          <p:cNvSpPr/>
          <p:nvPr/>
        </p:nvSpPr>
        <p:spPr>
          <a:xfrm flipH="1" flipV="1">
            <a:off x="2833560" y="4584240"/>
            <a:ext cx="735120" cy="2415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V="1">
            <a:off x="4305240" y="3676320"/>
            <a:ext cx="0" cy="633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0"/>
          <p:cNvSpPr/>
          <p:nvPr/>
        </p:nvSpPr>
        <p:spPr>
          <a:xfrm flipH="1">
            <a:off x="2985840" y="5739840"/>
            <a:ext cx="734760" cy="3855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2"/>
          <p:cNvSpPr/>
          <p:nvPr/>
        </p:nvSpPr>
        <p:spPr>
          <a:xfrm flipH="1">
            <a:off x="6014880" y="3676680"/>
            <a:ext cx="268560" cy="9079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6"/>
          <p:cNvSpPr/>
          <p:nvPr/>
        </p:nvSpPr>
        <p:spPr>
          <a:xfrm flipV="1">
            <a:off x="4692600" y="5808600"/>
            <a:ext cx="0" cy="635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7"/>
          <p:cNvSpPr/>
          <p:nvPr/>
        </p:nvSpPr>
        <p:spPr>
          <a:xfrm flipH="1" flipV="1">
            <a:off x="6014880" y="5906880"/>
            <a:ext cx="268560" cy="633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 flipH="1">
            <a:off x="8092800" y="3408480"/>
            <a:ext cx="641160" cy="7221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1"/>
          <p:cNvSpPr/>
          <p:nvPr/>
        </p:nvSpPr>
        <p:spPr>
          <a:xfrm flipH="1" flipV="1">
            <a:off x="7959240" y="5740200"/>
            <a:ext cx="266760" cy="633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2"/>
          <p:cNvSpPr/>
          <p:nvPr/>
        </p:nvSpPr>
        <p:spPr>
          <a:xfrm flipH="1" flipV="1">
            <a:off x="8467200" y="5259240"/>
            <a:ext cx="476280" cy="5493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7205040" y="3408480"/>
            <a:ext cx="245880" cy="514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7"/>
          <p:cNvSpPr/>
          <p:nvPr/>
        </p:nvSpPr>
        <p:spPr>
          <a:xfrm flipH="1">
            <a:off x="6808680" y="5651640"/>
            <a:ext cx="642960" cy="7221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8"/>
          <p:cNvSpPr/>
          <p:nvPr/>
        </p:nvSpPr>
        <p:spPr>
          <a:xfrm>
            <a:off x="5373720" y="4130640"/>
            <a:ext cx="0" cy="8161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AGE 51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Guiding Principles of our Constit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1. Federalis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power is divided between a central government and a smaller regional govern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313160" y="3224160"/>
            <a:ext cx="288936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448920"/>
            <a:ext cx="822960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2. popular sovereignt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the belief that the people are the ultimate source of authority of the gover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the people…”  - Pream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ouse of Representatives shall b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sed of members chosen…by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…”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Article I, Section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449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3. separation of pow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the idea that the powers of government should be split between two or more independent branches to prevent any one person or group from gaining too much power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(checks &amp; balanc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“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[the president] shall have Power…to make Treaties, provided two thirds of the Senators present concur.”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        – Article II, Section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2664000" y="3051000"/>
            <a:ext cx="380988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517680" y="-360"/>
            <a:ext cx="822960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4. Individual righ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The rights and liberties that can be claimed by individuals by virtue of being human. Such rights are also sometimes referred to as natural or human righ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rial of all Crimes, except in Cases of Impeachment, shall be by Jury.”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–Article III, Section 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703440" y="3859200"/>
            <a:ext cx="3835080" cy="253836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5656320" y="3514680"/>
            <a:ext cx="2738520" cy="31194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449280"/>
            <a:ext cx="6345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ink back to Monday and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ase of Dwight Lopez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else in our Constitution are our individual rights prot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Bill of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amp; 1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mend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…the right t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u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no person can be deprived of lif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berty, or property without a fai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gal procedu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6419880" y="449280"/>
            <a:ext cx="207648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6419880" y="3616200"/>
            <a:ext cx="24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asir Esam Ham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6345360" y="4290840"/>
            <a:ext cx="2498760" cy="142740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6707160" y="5821200"/>
            <a:ext cx="178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ald Rumsfeld Sec. of Def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1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495360" y="1378080"/>
            <a:ext cx="538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amdi v. Rumsfe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276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REFLECTION – Bottom ½ 50 – Type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8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. Based on your understanding of the Constitution,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does the executive branch have the power to suspend a citizen’s civil rights during times of wa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back your opinion with 1 + clause in the constitutio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 Predict what the Supreme Court will dec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Were you surprised by the outcome? Why or why no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. Were you surprised by my “extra info” of what happened to Hamdi after the trial? Why or why no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nd why did the framers distribute power in the Constitu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modern circumstances present challenges to carrying out the original intentions of the Constitu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think the Constitution still works today? Why or why no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23:00:06Z</dcterms:created>
  <dc:creator>Teacher</dc:creator>
  <dc:description/>
  <dc:language>en-US</dc:language>
  <cp:lastModifiedBy>Teacher</cp:lastModifiedBy>
  <dcterms:modified xsi:type="dcterms:W3CDTF">2011-10-19T23:41:36Z</dcterms:modified>
  <cp:revision>4</cp:revision>
  <dc:subject/>
  <dc:title>Slide 1</dc:title>
</cp:coreProperties>
</file>